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5B0-06A7-461F-96AB-9312AB8C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902-034A-44D2-A715-02EFFBEF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D5C-1863-4D83-B5BF-215B8C2D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638-412D-4AEE-82D5-953F81C8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BB77-D4AE-48FC-9479-E6058673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F6D4-F9FC-41B1-8984-80D50978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6A5A-D9AA-4FB5-A5EC-024D4B0D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C524-8ED6-4FAA-8578-C83B287C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828B-85FB-4C49-9922-C1415360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5583-45AB-456A-8B54-ADEC56E9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F7BB-2489-4DA9-9B4B-6C2B2A9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0B1-7FC1-44BE-B467-9CCDF3B4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7574-BB20-4FE6-B817-FA233713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7905-44A8-45AD-946E-7BA03390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8FA4-C945-4C2D-B80C-A367E6FE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E51B-4DBF-4801-A632-1601795B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0764-B07A-4A2E-8512-833B3AA1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2FAF-1715-4279-A9D4-6889C7E1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8887-53A1-4F46-83BC-FAFD2636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45D2-CB14-4CCE-B6EB-EC430E6A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98E2-BEDD-470A-AE6E-94C9113E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671B-95EC-49F9-A64A-F7C893B2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F5B-04E3-417F-A419-9192F7E6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D090-0F28-42F3-83D2-D7CDE216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E13E-BE0E-4798-AB69-9E39616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4A45-827F-41DE-9CF9-BE3F52CA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147E-7558-49E4-B5B4-C1FED78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6034-B127-4B6F-95AA-C56CF24C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506B-3D0A-4E73-829A-016A7187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FA21-3F4E-4570-92AB-C560F9E2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458F-0EE6-4CFD-8DCE-D394DF31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99C4-EFDB-4652-8F8D-B65B1EF2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D3F5-C14A-430F-A752-F9E3F202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6D8-4158-4F6E-9F81-7D291792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AB9B-0914-4E56-90A8-2EF74A0B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1BF0-9DAF-4BC0-ABA2-B401A824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D745-8B6F-47B1-81D5-C24C74D4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8EF6F-381E-4C08-8D04-B93A4E8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528E-274D-40E3-9770-313702D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96F36-BAF4-4450-BD3B-EC0A4231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C4B2F-5CCF-4EF8-9736-B52FDE3F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87A62-2C8B-4F2E-BF98-5A8E9C99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377F9-2DF2-4F92-ABE3-D96A24CE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7BC-BD5E-4CED-94CF-1B288331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242-6253-4A25-9A37-3D6345C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75D-8F56-4484-B5C4-ACF2EC8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441-EC5F-4CE9-AB47-8F402DD3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A48-C889-4FBC-BE03-B109FB0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A2E-3CDA-484D-91F1-1BE6F6F9F76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725F-79CC-45F5-A91C-A47E6A03B8E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284D-49EE-4276-9DF2-0C22F324F65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87D-6FF2-4085-9356-93EAA845C9C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1017360"/>
            <a:ext cx="7767720" cy="30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спользование цифровых образовательных ресурсов в процессе обучения на примере подготовки вожатых к работе в пришкольном лагере.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73520" y="4895640"/>
            <a:ext cx="429732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Абрамова Т.В, учитель начальных классов МБОУ «Звонаревокутская СОШ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Объект 6" descr=""/>
          <p:cNvPicPr/>
          <p:nvPr/>
        </p:nvPicPr>
        <p:blipFill>
          <a:blip r:embed="rId1"/>
          <a:stretch/>
        </p:blipFill>
        <p:spPr>
          <a:xfrm>
            <a:off x="6472080" y="627120"/>
            <a:ext cx="2965680" cy="4565520"/>
          </a:xfrm>
          <a:prstGeom prst="rect">
            <a:avLst/>
          </a:prstGeom>
          <a:ln w="0">
            <a:noFill/>
          </a:ln>
        </p:spPr>
      </p:pic>
      <p:pic>
        <p:nvPicPr>
          <p:cNvPr id="244" name="Объект 7" descr=""/>
          <p:cNvPicPr/>
          <p:nvPr/>
        </p:nvPicPr>
        <p:blipFill>
          <a:blip r:embed="rId2"/>
          <a:stretch/>
        </p:blipFill>
        <p:spPr>
          <a:xfrm>
            <a:off x="1019160" y="627120"/>
            <a:ext cx="3494160" cy="45655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1976400" y="5678640"/>
            <a:ext cx="71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b330"/>
                </a:solidFill>
                <a:latin typeface="Times New Roman"/>
                <a:ea typeface="Times New Roman"/>
              </a:rPr>
              <a:t>Задание 4. Поиск и подбор игр для определенной возрастной группы де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77520" y="515880"/>
            <a:ext cx="85964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вое качество образования                     современные формы обуч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ожительные сторон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ивают организацию учебной деятельности, направленной на  использование форм самостоятельной группово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Стрелка вправо 3"/>
          <p:cNvSpPr/>
          <p:nvPr/>
        </p:nvSpPr>
        <p:spPr>
          <a:xfrm rot="18057600">
            <a:off x="6576840" y="1843200"/>
            <a:ext cx="752400" cy="752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Стрелка вправо 4"/>
          <p:cNvSpPr/>
          <p:nvPr/>
        </p:nvSpPr>
        <p:spPr>
          <a:xfrm rot="5400000">
            <a:off x="4599720" y="3461400"/>
            <a:ext cx="7506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Стрелка вправо 5"/>
          <p:cNvSpPr/>
          <p:nvPr/>
        </p:nvSpPr>
        <p:spPr>
          <a:xfrm rot="14120400">
            <a:off x="2657520" y="1873440"/>
            <a:ext cx="752760" cy="750960"/>
          </a:xfrm>
          <a:prstGeom prst="rightArrow">
            <a:avLst>
              <a:gd name="adj1" fmla="val 50000"/>
              <a:gd name="adj2" fmla="val 5012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77520" y="618840"/>
            <a:ext cx="859644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и учащиеся испытывают затруднения при их использовании Цифровых образовательных ресурс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ые сторон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не обеспечивают сохранение промежуточных результатов выполнения зад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оступа к сети интерне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Стрелка вниз 3"/>
          <p:cNvSpPr/>
          <p:nvPr/>
        </p:nvSpPr>
        <p:spPr>
          <a:xfrm>
            <a:off x="4819680" y="3236760"/>
            <a:ext cx="588960" cy="546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Стрелка вниз 4"/>
          <p:cNvSpPr/>
          <p:nvPr/>
        </p:nvSpPr>
        <p:spPr>
          <a:xfrm>
            <a:off x="4819680" y="5073480"/>
            <a:ext cx="588960" cy="546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Стрелка вниз 5"/>
          <p:cNvSpPr/>
          <p:nvPr/>
        </p:nvSpPr>
        <p:spPr>
          <a:xfrm rot="10800000">
            <a:off x="4780080" y="1820520"/>
            <a:ext cx="590400" cy="546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истема образования с применением цифровых образовательных ресурсов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полагает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требность в качественных цифровых образовательных ресурса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нение всего спектра возможностей современных информационных и телекоммуникационных технологий в процессе выполнения разнообразных видов учебной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 условий для осуществления индивидуальной самостоятельной учебной деятельности обучаемы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основы для постоянного и оперативного общения педагогов, обучаемых, нацеленного на повышение эффективности обуче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6240" y="1017360"/>
            <a:ext cx="7767720" cy="30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спользование цифровых образовательных ресурсов в процессе обучения на примере подготовки вожатых к работе в пришкольном лагере.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7373520" y="4895640"/>
            <a:ext cx="429732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Абрамова Т.В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МБОУ «Звонаревокутская СОШ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Объект 4" descr=""/>
          <p:cNvPicPr/>
          <p:nvPr/>
        </p:nvPicPr>
        <p:blipFill>
          <a:blip r:embed="rId1"/>
          <a:stretch/>
        </p:blipFill>
        <p:spPr>
          <a:xfrm>
            <a:off x="574560" y="396720"/>
            <a:ext cx="4183200" cy="271800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5" descr=""/>
          <p:cNvPicPr/>
          <p:nvPr/>
        </p:nvPicPr>
        <p:blipFill>
          <a:blip r:embed="rId2"/>
          <a:stretch/>
        </p:blipFill>
        <p:spPr>
          <a:xfrm>
            <a:off x="6718320" y="507960"/>
            <a:ext cx="2690640" cy="2691000"/>
          </a:xfrm>
          <a:prstGeom prst="rect">
            <a:avLst/>
          </a:prstGeom>
          <a:ln w="0">
            <a:noFill/>
          </a:ln>
        </p:spPr>
      </p:pic>
      <p:sp>
        <p:nvSpPr>
          <p:cNvPr id="216" name="Стрелка вправо 6"/>
          <p:cNvSpPr/>
          <p:nvPr/>
        </p:nvSpPr>
        <p:spPr>
          <a:xfrm>
            <a:off x="4357800" y="1711440"/>
            <a:ext cx="1076040" cy="8110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3"/>
          <a:stretch/>
        </p:blipFill>
        <p:spPr>
          <a:xfrm>
            <a:off x="3017880" y="4557600"/>
            <a:ext cx="6391080" cy="1608120"/>
          </a:xfrm>
          <a:prstGeom prst="rect">
            <a:avLst/>
          </a:prstGeom>
          <a:ln w="0">
            <a:noFill/>
          </a:ln>
        </p:spPr>
      </p:pic>
      <p:sp>
        <p:nvSpPr>
          <p:cNvPr id="218" name="Стрелка вниз 8"/>
          <p:cNvSpPr/>
          <p:nvPr/>
        </p:nvSpPr>
        <p:spPr>
          <a:xfrm>
            <a:off x="7621560" y="3392640"/>
            <a:ext cx="873000" cy="9428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65000" y="483840"/>
            <a:ext cx="10515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привлечение педагогически ориентированных школьников к обучению по данному направлению, к разработке мероприятий и образовательных ресурсов, подготовка к проведение общелагерных, и отрядных  мероприят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зможность оперативного получения  информации по определенному направлению работы или обучению. Составление определенного плана работы, поиск необходимой информации в интернете, ознакомление с различными образовательными ресурс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общение школьников к современным информационным технологиям, формирование потребности в овладении ИТ и постоянной работе с ни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5" descr=""/>
          <p:cNvPicPr/>
          <p:nvPr/>
        </p:nvPicPr>
        <p:blipFill>
          <a:blip r:embed="rId1"/>
          <a:stretch/>
        </p:blipFill>
        <p:spPr>
          <a:xfrm>
            <a:off x="2619360" y="1600200"/>
            <a:ext cx="5243400" cy="39322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825480" y="530280"/>
            <a:ext cx="283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b330"/>
                </a:solidFill>
                <a:latin typeface="Times New Roman"/>
                <a:ea typeface="Times New Roman"/>
              </a:rPr>
              <a:t>Воспитатель (учитель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5737320" y="530280"/>
            <a:ext cx="387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b330"/>
                </a:solidFill>
                <a:latin typeface="Times New Roman"/>
                <a:ea typeface="Times New Roman"/>
              </a:rPr>
              <a:t>Вожатый (учащийся старших классов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2241720" y="5880240"/>
            <a:ext cx="62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b330"/>
                </a:solidFill>
                <a:latin typeface="Times New Roman"/>
                <a:ea typeface="Times New Roman"/>
              </a:rPr>
              <a:t>Дети, учащиеся начальной школы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Стрелка вправо 9"/>
          <p:cNvSpPr/>
          <p:nvPr/>
        </p:nvSpPr>
        <p:spPr>
          <a:xfrm rot="3342000">
            <a:off x="2064240" y="1575720"/>
            <a:ext cx="353880" cy="37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Стрелка вправо 10"/>
          <p:cNvSpPr/>
          <p:nvPr/>
        </p:nvSpPr>
        <p:spPr>
          <a:xfrm rot="7264800">
            <a:off x="8061120" y="1547640"/>
            <a:ext cx="353880" cy="379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Стрелка вправо 11"/>
          <p:cNvSpPr/>
          <p:nvPr/>
        </p:nvSpPr>
        <p:spPr>
          <a:xfrm rot="16200000">
            <a:off x="5064120" y="5585760"/>
            <a:ext cx="353880" cy="379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90406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аправления работы в сети Интерне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Объект 5" descr=""/>
          <p:cNvPicPr/>
          <p:nvPr/>
        </p:nvPicPr>
        <p:blipFill>
          <a:blip r:embed="rId1"/>
          <a:stretch/>
        </p:blipFill>
        <p:spPr>
          <a:xfrm>
            <a:off x="677880" y="2160720"/>
            <a:ext cx="4183200" cy="3301920"/>
          </a:xfrm>
          <a:prstGeom prst="rect">
            <a:avLst/>
          </a:prstGeom>
          <a:ln w="0">
            <a:noFill/>
          </a:ln>
        </p:spPr>
      </p:pic>
      <p:pic>
        <p:nvPicPr>
          <p:cNvPr id="229" name="Объект 4" descr=""/>
          <p:cNvPicPr/>
          <p:nvPr/>
        </p:nvPicPr>
        <p:blipFill>
          <a:blip r:embed="rId2"/>
          <a:stretch/>
        </p:blipFill>
        <p:spPr>
          <a:xfrm>
            <a:off x="5877000" y="2160720"/>
            <a:ext cx="4184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Электронный учебный кур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смотр видеоматериалов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зентаци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еофрагменты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сылки на статьи в сети интерне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880" y="609480"/>
            <a:ext cx="92772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боты, выполненные в течении обуч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Объект 4" descr=""/>
          <p:cNvPicPr/>
          <p:nvPr/>
        </p:nvPicPr>
        <p:blipFill>
          <a:blip r:embed="rId1"/>
          <a:stretch/>
        </p:blipFill>
        <p:spPr>
          <a:xfrm>
            <a:off x="792000" y="1668600"/>
            <a:ext cx="4843800" cy="3379680"/>
          </a:xfrm>
          <a:prstGeom prst="rect">
            <a:avLst/>
          </a:prstGeom>
          <a:ln w="0">
            <a:noFill/>
          </a:ln>
        </p:spPr>
      </p:pic>
      <p:pic>
        <p:nvPicPr>
          <p:cNvPr id="234" name="Объект 5" descr=""/>
          <p:cNvPicPr/>
          <p:nvPr/>
        </p:nvPicPr>
        <p:blipFill>
          <a:blip r:embed="rId2"/>
          <a:stretch/>
        </p:blipFill>
        <p:spPr>
          <a:xfrm>
            <a:off x="6681960" y="1668600"/>
            <a:ext cx="4778280" cy="337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1874880" y="5456160"/>
            <a:ext cx="75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d56a"/>
                </a:solidFill>
                <a:latin typeface="Times New Roman"/>
                <a:ea typeface="Times New Roman"/>
              </a:rPr>
              <a:t>Задание 1. Представление детей о том «Кто такой вожатый?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Объект 4" descr=""/>
          <p:cNvPicPr/>
          <p:nvPr/>
        </p:nvPicPr>
        <p:blipFill>
          <a:blip r:embed="rId1"/>
          <a:stretch/>
        </p:blipFill>
        <p:spPr>
          <a:xfrm>
            <a:off x="412920" y="577800"/>
            <a:ext cx="4375080" cy="2876760"/>
          </a:xfrm>
          <a:prstGeom prst="rect">
            <a:avLst/>
          </a:prstGeom>
          <a:ln w="0">
            <a:noFill/>
          </a:ln>
        </p:spPr>
      </p:pic>
      <p:pic>
        <p:nvPicPr>
          <p:cNvPr id="237" name="Объект 5" descr=""/>
          <p:cNvPicPr/>
          <p:nvPr/>
        </p:nvPicPr>
        <p:blipFill>
          <a:blip r:embed="rId2"/>
          <a:stretch/>
        </p:blipFill>
        <p:spPr>
          <a:xfrm>
            <a:off x="5835600" y="533520"/>
            <a:ext cx="3895920" cy="2921040"/>
          </a:xfrm>
          <a:prstGeom prst="rect">
            <a:avLst/>
          </a:prstGeom>
          <a:ln w="0">
            <a:noFill/>
          </a:ln>
        </p:spPr>
      </p:pic>
      <p:pic>
        <p:nvPicPr>
          <p:cNvPr id="238" name="Объект 4" descr=""/>
          <p:cNvPicPr/>
          <p:nvPr/>
        </p:nvPicPr>
        <p:blipFill>
          <a:blip r:embed="rId3"/>
          <a:stretch/>
        </p:blipFill>
        <p:spPr>
          <a:xfrm>
            <a:off x="554040" y="3643200"/>
            <a:ext cx="4233960" cy="28908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6105600" y="3981600"/>
            <a:ext cx="34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b330"/>
                </a:solidFill>
                <a:latin typeface="Times New Roman"/>
                <a:ea typeface="Times New Roman"/>
              </a:rPr>
              <a:t>Задание 2. Разработка логотипа отряд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Объект 7" descr=""/>
          <p:cNvPicPr/>
          <p:nvPr/>
        </p:nvPicPr>
        <p:blipFill>
          <a:blip r:embed="rId1"/>
          <a:stretch/>
        </p:blipFill>
        <p:spPr>
          <a:xfrm>
            <a:off x="6297480" y="609480"/>
            <a:ext cx="3870360" cy="47404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1739880" y="5662440"/>
            <a:ext cx="73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b330"/>
                </a:solidFill>
                <a:latin typeface="Times New Roman"/>
                <a:ea typeface="Times New Roman"/>
              </a:rPr>
              <a:t>Задание 3. Поиск и подбор названий отряда, речевок и девиз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Объект 4" descr=""/>
          <p:cNvPicPr/>
          <p:nvPr/>
        </p:nvPicPr>
        <p:blipFill>
          <a:blip r:embed="rId2"/>
          <a:stretch/>
        </p:blipFill>
        <p:spPr>
          <a:xfrm>
            <a:off x="880920" y="609480"/>
            <a:ext cx="370548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1T05:41:19Z</dcterms:created>
  <dc:creator>DELL-PC</dc:creator>
  <dc:description/>
  <dc:language>en-US</dc:language>
  <cp:lastModifiedBy>DELL-PC</cp:lastModifiedBy>
  <dcterms:modified xsi:type="dcterms:W3CDTF">2020-11-12T06:29:23Z</dcterms:modified>
  <cp:revision>11</cp:revision>
  <dc:subject/>
  <dc:title>Авторские цифровые образовательные ресурсы.</dc:title>
</cp:coreProperties>
</file>